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365-B3B1-4E74-807E-6C51F0DB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654-B9A2-4085-8EFC-84173466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466-2FEA-4CC3-9044-093ADE81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8BB-028F-418D-991C-A67284A9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5889-6A5B-41B0-A43F-60D86610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AA25-CA5F-466C-8D34-E2B72476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B348-A80D-4CAF-8F11-1BB81B32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ACC4-0CD1-4DDB-A49F-37EA1F95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9CC6-EAA2-446C-BB27-0A4F4C67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34E4-DF01-48B5-BFC9-925BF261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B709-111B-4185-AFAC-C41C331F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D23-220F-472C-A46D-B2489913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6586-A669-417C-A472-487ADF51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7C92-E05C-478C-BD34-6C66D212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DB22-9108-46BD-A308-ACC7AB62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A5EC-D973-49B7-AC29-D0C1995E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F4CD-5E42-45D5-AA68-B9C9434C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7CD-C399-47D3-AE74-35004980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AE7-F727-4496-BC8A-10AC1ED6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015-C4C7-4155-AA92-17B1B02B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78D-D0BD-4EDB-9879-763CDE72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C53-41B1-4DE8-B8C4-34ABF773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71B-4333-4C55-B6F2-83C495FE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523-46DF-4228-83FA-D7ECAE7D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F7A0-3986-477F-B77B-280768F900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F7B3-2DC3-404F-9290-3CCB66C36F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Searc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Validity of Websi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Scanning Web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anning Websi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want a website to be sca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makes information in a website easier to fi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rmally you don’t want to read the whole website, just the info pertaining to your need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you can’t find the info you need quickly, you will leave the website and search for another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elps make website sca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NB (links taking you to other parts of the sit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lleted li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asy to read tex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ld word to stick out from the rest of the tex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net Searc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search eng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 application that searches for and retrieves data based on some criteria. (Especially one that searches the Internet for documents containing specified words.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different search engines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oogle, Yahoo, Bing, Ask Jeeves,MSN, AOL,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use a Search Eng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that are contempor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dern top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Internet has more up-to-date information on current eve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that are controvers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Internet can give you a lot of different opinions on one topic. It can help you research a topic from different perspectiv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erences between Web Sources and Book Sour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_s1030"/>
          <p:cNvSpPr/>
          <p:nvPr/>
        </p:nvSpPr>
        <p:spPr>
          <a:xfrm>
            <a:off x="304920" y="2057400"/>
            <a:ext cx="5182920" cy="4119480"/>
          </a:xfrm>
          <a:prstGeom prst="ellipse">
            <a:avLst/>
          </a:prstGeom>
          <a:solidFill>
            <a:srgbClr val="67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_s1030"/>
          <p:cNvSpPr/>
          <p:nvPr/>
        </p:nvSpPr>
        <p:spPr>
          <a:xfrm>
            <a:off x="3733920" y="2133720"/>
            <a:ext cx="4952880" cy="4043160"/>
          </a:xfrm>
          <a:prstGeom prst="ellipse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_s1031"/>
          <p:cNvSpPr/>
          <p:nvPr/>
        </p:nvSpPr>
        <p:spPr>
          <a:xfrm>
            <a:off x="2133720" y="1752480"/>
            <a:ext cx="1137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_s1029"/>
          <p:cNvSpPr/>
          <p:nvPr/>
        </p:nvSpPr>
        <p:spPr>
          <a:xfrm>
            <a:off x="5486400" y="1828800"/>
            <a:ext cx="136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ooks/Tex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590920"/>
            <a:ext cx="259092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one can publish a Web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ne checks to see if the information is true or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millions of places to look for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the Internet is much qui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narrow down what you’re looking for more eas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ternet uses search 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590920"/>
            <a:ext cx="25909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book has to be published by a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ors check and verify th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king for a book can be more time consu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have to visit a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brary uses the Dewey Decimal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505320"/>
            <a:ext cx="1752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provide 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are viewed b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of people e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to Search using a Search Eng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ain words you are searching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monly used words that will cause too many hits.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n’t use stop words in your search crite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at are the effects of global warming on agricul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word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ffects, global warming, agricul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op word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, are, the, of, 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fferent Ways to Se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nly one of the keywords need to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oth keywords need to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Most search engines automatically do a search first matching containing both keywords and later matching containing only one of the keyw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 Keyword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keywords must be found as typed with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 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: you may have more then 2 keywords with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”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– Keyword must be found ( South +Dako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– Keyword excluded (South –Dako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: keyword – Bring up different web definitions for the keyw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rning, you need to choose the correct words meaning for your task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alidity of Website Inform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because something is posted to the web, it doesn’t make it true or accu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he source? Is it a person, a group, a business, government, wikiped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ource have a slanted point of view? Do they have an agenda to promo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updates? Is it ver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putation of the 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can verify the information from several other websites or from book/text sources, then the information if val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Current is Information on Websi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topics, current information makes a differe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should have a date stamp of when information was upd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te your Websou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formation should be sited.  Copy and paste the web address to verify you won’t have a ty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ictures should be sited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ver use a search engine as a 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search engine is how you found the info/picture, but it is not where it resides.  The true website should be listed within the search engine’s li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8:06:40Z</dcterms:created>
  <dc:creator>wiesel</dc:creator>
  <dc:description/>
  <dc:language>en-US</dc:language>
  <cp:lastModifiedBy>wiesel</cp:lastModifiedBy>
  <dcterms:modified xsi:type="dcterms:W3CDTF">2010-04-06T20:29:11Z</dcterms:modified>
  <cp:revision>23</cp:revision>
  <dc:subject/>
  <dc:title>Internet Searching Validity of Website Scanning Websites</dc:title>
</cp:coreProperties>
</file>